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657-CD68-480A-8E52-849CF8EA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7A6-76D7-4767-96FF-25BA207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474-6039-4463-8AE1-096D4E3E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FD5-E8D9-4B39-A0DE-E736E456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D0F6-CFD3-475F-A2BA-B5AFA405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57D6-466E-47AA-961E-6F925DD1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BCD-10F1-4400-A1F5-1CE7A539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970C-20F1-4557-872B-90BEEFE2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EF1E-D15A-4529-850A-F22F8F02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3B88-A306-4AD3-9BBA-2CBE243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83AB-F689-4929-9C0B-20DCA61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DE6-D01F-4B43-97F7-E726B78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1004-2A28-4CAD-8147-94D4E471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C250-85CE-4B55-8E6D-9DC71D6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B35-F2D6-4EAA-B464-92EE25AA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C654-CBCC-4591-9CDA-6AF484D5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DAF-4EE5-4426-898E-A7B2AD31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601-DA53-4C18-8F70-2FE6EC5C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4E3-9BF9-48E7-86B5-5E6EF60B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1D7-A8B3-469C-9FD0-DF9CE67B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152-089E-42D8-ABE2-159D695E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27C-832C-4397-8A6B-F9ABCC7F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F89-967F-4C26-8C61-714EBCF1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2D5-8636-41C6-8EF1-9870B0E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14BE-62FF-4DD3-BC30-E8EC56D0DB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0D11-7C31-4915-A000-41D159A79E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rotege.stanford.edu/doc/owl/getting-started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racer-systems.com/products/download/index.p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rotege Tutori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rotegeOWLTutorial at proteg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6: Creating disjoint sub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epper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isjoint subclasses: RedPepperTopping, GreenPepperTopping, JalapenoPepper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Cheese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isjoint subclasses: MozzarellaTopping, Parmezan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Seafood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isjoint subclasses: TunaTopping, AnchovyTopping and Prawn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W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 Properties represent relationships between two ob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main proper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properties: link object to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type properties: link object to XML Schema datatype or rdf:lit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 has another property – Annotation properties, to be used to add annotation information to classes, individuals, and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47242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7: Create an object proper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itch to the “Properties” tab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“Create Object Property” button to create a new object proper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me it to hasIngre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8: Creating sub-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hasIngredient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hasTopping and hasBase as the sub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erse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object property may have a corresponding inverse proper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property links individual a to individual b, then its inverse property will link individual b to individual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5120" y="4648320"/>
            <a:ext cx="43034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9: Create inverse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object property called isIngredien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Set inverse property” butt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hasIngredi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inverse relation has been set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as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sBaseOf as the inverse property of ha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BaseOf is the subproperty of isIngredientOf,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asT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sToppingOf as the inverse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oppingOf is the subproper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isIngredientOf,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property is functional, for a given individual, there can only be at most one individual to be related via this proper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given domain, range must be u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 properties are also known as single valued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4648320"/>
            <a:ext cx="5029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erse Functiona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roperty is inverse functional, then its inverse property is funct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given range, domain must be u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3657600"/>
            <a:ext cx="5257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vs. inverse functiona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Property vs InverseFunctionalProp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2492280"/>
          <a:ext cx="7991280" cy="188748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655640"/>
                <a:gridCol w="2808360"/>
              </a:tblGrid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 given 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is u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Father: A hasFather B, A hasFather 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=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Functional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is u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 given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ID: A hasID B, C hasID 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proteg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ge is a free, open-source platform to construct domain models and knowledge-based applications with ontolo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tologies range from taxonomies, classifications, database schemas to fully axiomatized theo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tologies are now central to many applications such as scientific knowledge portals, information management and integration systems, electronic commerce and web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itive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property is transitive, and the property related individual a to individual b, and also individual b to individual c, then we can infer that individual a is related to individual c via property 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1385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metric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roperty P is symmetric, and the property relates individual a to individual b, then individual b is also related to individual a via property 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43689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0: Make the hasIngredient property transi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hasIngredient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ck the transitive tick 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isIngredientOf property, make sure that the transitive tick box is tick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1: Make the hasBase property function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hasBas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ck the “functional” tick 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-DL does not allow datatype properties to be transitive, symmetric or have inverse proper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 domains and r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ties link individuals from the domain to individuals from the r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 uses domain and range as axioms in reaso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2: Specify the range of hasT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has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range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OK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zzaTopping should be displayed in the range l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multiple classes are added to the range, they represent the union of all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13: Specify Pizza as the domain of the hasTopping propert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hasTopping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add domain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zza is displayed in the domain l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multiple classes are added as domain, they represent as the union of these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14: Specify the domain and range for the isToppingOf property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isToppingOf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the domain of the isToppingOf property to Pizza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the range of the isToppingOf property to Pizz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66"/>
                </a:solidFill>
                <a:latin typeface="Arial"/>
              </a:rPr>
              <a:t>E15: Specify the domain and range for the hasBase property and its inverse property isBaseOf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hasBas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domain as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range as Pizz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isBaseOf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domain as Pizz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range as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 restri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WL, properties are used to create restri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ions are used to restrict the individuals that belong to a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tri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fier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istential quantifier (   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iversal quantifier (     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inality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Value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191120" y="40384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038480" y="434340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all Prote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rotege.stanford.edu/doc/owl/getting-started.htm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download protege (version 3.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ge OWL editor is built with the full installation of protege platform. During the install process, choose the “Basic+OWL” o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ore details: http://protege.stanford.edu/doc/owl/getting-started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6: Add a restriction to 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a restriction to Pizza that specifies a Pizza must have a Pizz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Necessary header to create a necessary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reate a restriction wiz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hasBase as restricted proper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someValueFrom as restri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t PizzaBase into the fil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5526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 a restriction to 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52680" y="2103480"/>
            <a:ext cx="4237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8: Creating different kinds of Pizz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 subclass of Pizza called NamedPizza, and a subclass of NamedPizza called MargheritaPizz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comment to MargheritaPizza: A pizza that only has Mozarella and Tomato topp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9: Adding restrictions to Margherita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that MargheritaPizza has at least one MozzarellaTo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“Asserted Conditions”, create new restri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someValueF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hasTopping as the property to be restri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MozzarellaTopping as the fi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OK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0: Adding restrictions to Margherita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that MargheritaPizza has at least one TomatoTo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“Asserted Conditions”, create new restri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someValueF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hasTopping as the property to be restri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omatoTopping as the fi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OK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1: Create American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mericanPizza with toppings of pepperoni, mozzarella and toma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 cloning and modifying the description of MargheritaPizz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reate c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additional restriction to Americana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ng PepperoniTopp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O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22: Create an AmericanHotPizza and a SohoPizz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mericanHotPizza is almost the same as an AmericanaPizza, but has JalapenoPepperTopping o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ohoPizza is almost the same as a MargheritaPizza, but has additional OliveTopping and Parmezan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5791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23: Make subclasses of NamedPizza disjoint from each other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 “add all siblings” button on the “Disjoints widget” to make the pizzas disjoint from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a reaso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tology described in OWL-DL can be processed by a reason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owl—preference, to make sure that OWL-DL is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ain services offered by a reasoner is to test whether or not one class is a subclass of another cl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y performing such tests on all of the classes, it is possible for a reasoner t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ute the inferred ontology class hierarch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other reasoning service i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stency check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to check whether or not it is possible for the class to have any instanc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lass is deemed to be inconsistent if it cannot possibly have any instanc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Rac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der to reason over the ontology in Protege-OWL, a DIG compliant reasoner should be installed and star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is tutorial, we use Rac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wnload at: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racer-systems.com/products/download/index.p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click RacerPro to start Ra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e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are two main ways of modelling ontologi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-bas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ach has its own user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tege Frames editor: enables users to build and populate ontologies that are frame-based, in accordance with OKBC (Open Knowledge Base Connectivity Protocol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s for properti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ces fo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tege OWL editor: enables users to build ontology for the Semantic Web, in particular to OW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oking the reaso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ving started Racer, the ontology can be sent to the reasoner to automatically c</a:t>
            </a: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pute the classification hierarchy, and also check the logical consistency of the ontolo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tege, the manually constructed class hierarchy is called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serted hierarch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The automatically computed by the reasoner is called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erred hierarch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 to OWL – classify taxonomy – to invoke the reason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lass has b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lass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 class name will appear in a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blue col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inferred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 to OWL – Check consistency – to invoke the reason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lass has been found to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onsis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’s icon will be circl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tr-TR" sz="2000" spc="-1" strike="noStrike">
                <a:solidFill>
                  <a:srgbClr val="ff0000"/>
                </a:solidFill>
                <a:latin typeface="Arial"/>
              </a:rPr>
              <a:t> color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ing the inferred class hierarchy is also known 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lassifying the ontolo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oke the reaso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4: Inconsistent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rder to demonstrate the use of the reasoner to detect inconsistencies in the ontology, we will create a class ProbeInconsistentTopp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the subclass of CheeseT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robeInconsistentTopping, go to asserted condition to add named classes, select VegetableTopping and then press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OWL – check 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343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25: Classify the ontology agai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e ProbeInconsistentTopping is inconsis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53532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26: Remove the disjoint statemen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ween CheeseTopping and VegetableTopping to see what happ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heese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Disjoint 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VegetableTopping, right click and “Delete the selected row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y tax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consistency no longer exi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7: Fix the ont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making CheeseTopping and VegetableTopping disjoint from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ge Ontology Libra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protegewiki.stanford.edu/index.php/Protege_Ontology_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ge tu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o-ode.org/resources/tutorials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ge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protege.stanford.edu/doc/user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protege.stanford.edu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ing an OWL Ont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2: Create a new OW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prot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– New Project – OWL/RDF files – Ontology URI (http://www.pizza.com/ontologies/pizza.owl) – OWL DL – Properties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ew empty Protege-OWL project has been cre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e it in your local file as pizza.ow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ed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OWL Classes t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mpty class tree contains one class called owl:Thing, which is superclass of every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3: Create subclasses Pizza, PizzaTopping and PizzaBase. They are subclasses of owl: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ing con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pecial naming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joint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4: How to say that Pizza, PizzaTopping and PizzaBase classes are disjo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114800" y="3124080"/>
            <a:ext cx="4336920" cy="3135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3048120"/>
            <a:ext cx="33530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lass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add siblings” button on the disjoint classes wi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izzaBase and PizzaTo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lass PizzaTop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izza and PizzaBase to the disjoin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5: Create group of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ThinAndCrisyBase and DeepPanBase as the subclasses of PizzaBase, and each of them are disjoin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izzaBase, right click the mouse, select “create subclass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the wizard to create these two disjoint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save lots of time when there is need to create lots of disjoint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6: Create some subclasses of PizzaT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Topp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subclaesses as MeatTopping, VegetableTopping, CheeseTopping and SeafoodTopping. Make sure that these classes are disjoint to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the class MeatTopp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disjoint subclasses: SpicyBeefTopping, PepperoniTopping, SalamiTopping and HamTo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VegetableTopp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disjoint subclasses: TomatoTopping, OliveTopping, MushroomTopping, PepperTopping, OnionTopping, CaperTo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8:14:45Z</dcterms:created>
  <dc:creator>yindin</dc:creator>
  <dc:description/>
  <dc:language>en-US</dc:language>
  <cp:lastModifiedBy>Erdogan Dogdu</cp:lastModifiedBy>
  <dcterms:modified xsi:type="dcterms:W3CDTF">2008-11-04T09:03:19Z</dcterms:modified>
  <cp:revision>155</cp:revision>
  <dc:subject/>
  <dc:title>Protege Tutorial</dc:title>
</cp:coreProperties>
</file>